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B3B-B828-4444-9DD2-188E7A495C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5D27-E72F-47CD-B2EF-8CF7E4E5D66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0889-2133-464D-B01B-E1C014AB61F0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B2A3-78E5-44B0-888E-D4A4CF570A6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AF8-E214-4736-B32D-1CF8013A87DD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6C2-A46D-4845-BBCA-561C8BE85F7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23FF-6A66-455C-A806-CC7F5B32498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9CED-89A6-4BEF-8CB6-F78B00C86B5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874-D745-4096-AE63-ED0D4DE32E1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A736-2327-4B10-B8EC-8AA980BCA85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7643-ABE7-4304-A963-CAE7D64BD7D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B3B1-22E6-4C5C-BBE3-CE139F4E2D3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B2E0-F27C-43A4-BB06-438B0145487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FAA8-211C-4391-A4F3-0D6662B485A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E59-9297-47CC-81BB-0C321A99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54A-1FD0-49C2-9C11-411CD3BE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8AB-1228-4482-884C-0DE8F8FD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805-838E-4EC5-8299-B95CA87A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1F34-5958-47EE-995E-89966DA7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5EE-9343-4242-8B23-42D72C7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9B6-BBB9-4000-AA5D-C49DB8AA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7987-7C7C-439E-A549-185CDB00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095E-02BF-49DD-9F80-7CA865D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A551-0E09-4930-A635-ED543818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CEDF-BFEA-4597-8982-71E3297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433-4B4B-4436-968C-BA07A3A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96BB-9801-4084-A25C-20C9CF5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139D-68EC-49A8-9422-678747C4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3DC-4000-4F96-9D6D-2A5D9AC8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7E7A-19F5-42CF-BFE7-F4B26FED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CFD6-45B9-4947-9860-888B87F9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32E-4A1E-468C-8C41-23D96D0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F32-9EA2-45E4-AC89-76535F1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5DD-BB54-459B-984F-E6D00EA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674-3076-4930-B59D-AC0C364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B7D-432F-4EBA-8530-92B798F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B0C-F80D-4FF5-9B74-658020B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6C6-BDB9-46F4-BED0-36E5BF3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8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81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300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301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302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303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304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305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306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307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308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309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310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311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312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313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314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315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316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317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318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319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320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321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322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323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324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325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26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27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8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29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30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31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32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33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34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35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336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337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338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339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340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341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342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343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344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345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346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347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348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349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350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351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352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353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354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355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356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357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358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359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360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361"/>
              <p:cNvSpPr/>
              <p:nvPr/>
            </p:nvSpPr>
            <p:spPr>
              <a:xfrm rot="3318000">
                <a:off x="6569280" y="-1018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362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363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364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365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366"/>
              <p:cNvSpPr/>
              <p:nvPr/>
            </p:nvSpPr>
            <p:spPr>
              <a:xfrm rot="6283800">
                <a:off x="7779240" y="1205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367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368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369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370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371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372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373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374"/>
              <p:cNvSpPr/>
              <p:nvPr/>
            </p:nvSpPr>
            <p:spPr>
              <a:xfrm rot="3318000">
                <a:off x="6512400" y="31741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375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376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377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378"/>
              <p:cNvSpPr/>
              <p:nvPr/>
            </p:nvSpPr>
            <p:spPr>
              <a:xfrm rot="6283800">
                <a:off x="7283880" y="4062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379"/>
              <p:cNvSpPr/>
              <p:nvPr/>
            </p:nvSpPr>
            <p:spPr>
              <a:xfrm flipV="1" rot="15949200">
                <a:off x="8124120" y="332352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380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86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287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288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289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290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291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292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293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294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295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296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297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298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8C80-1FA5-4CFF-A150-45E34037B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10"/>
          <p:cNvGrpSpPr/>
          <p:nvPr/>
        </p:nvGrpSpPr>
        <p:grpSpPr>
          <a:xfrm>
            <a:off x="-468360" y="-293400"/>
            <a:ext cx="9765000" cy="7675560"/>
            <a:chOff x="-468360" y="-293400"/>
            <a:chExt cx="9765000" cy="7675560"/>
          </a:xfrm>
        </p:grpSpPr>
        <p:grpSp>
          <p:nvGrpSpPr>
            <p:cNvPr id="138" name="Group 109"/>
            <p:cNvGrpSpPr/>
            <p:nvPr/>
          </p:nvGrpSpPr>
          <p:grpSpPr>
            <a:xfrm>
              <a:off x="-468360" y="-293400"/>
              <a:ext cx="9765000" cy="7675560"/>
              <a:chOff x="-468360" y="-293400"/>
              <a:chExt cx="9765000" cy="767556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55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436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24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4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384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81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832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136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368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468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2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24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2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29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140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60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39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1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124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60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15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58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80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67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0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795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836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480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66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43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588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2320" y="-1479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196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098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1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228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17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65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795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836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480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66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43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588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196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0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1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228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1640" y="1502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17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65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484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276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8920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56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67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48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636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516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83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31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29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18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368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897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5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296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04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748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86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74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0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26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70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764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3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105"/>
            <p:cNvGrpSpPr/>
            <p:nvPr/>
          </p:nvGrpSpPr>
          <p:grpSpPr>
            <a:xfrm>
              <a:off x="97560" y="2738160"/>
              <a:ext cx="8876160" cy="2564640"/>
              <a:chOff x="97560" y="2738160"/>
              <a:chExt cx="8876160" cy="2564640"/>
            </a:xfrm>
          </p:grpSpPr>
          <p:sp>
            <p:nvSpPr>
              <p:cNvPr id="221" name="Freeform 91"/>
              <p:cNvSpPr/>
              <p:nvPr/>
            </p:nvSpPr>
            <p:spPr>
              <a:xfrm rot="17967600">
                <a:off x="356760" y="330588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5"/>
              <p:cNvGrpSpPr/>
              <p:nvPr/>
            </p:nvGrpSpPr>
            <p:grpSpPr>
              <a:xfrm>
                <a:off x="228600" y="3524760"/>
                <a:ext cx="8745120" cy="223920"/>
                <a:chOff x="228600" y="3524760"/>
                <a:chExt cx="8745120" cy="223920"/>
              </a:xfrm>
            </p:grpSpPr>
            <p:sp>
              <p:nvSpPr>
                <p:cNvPr id="223" name="AutoShape 86"/>
                <p:cNvSpPr/>
                <p:nvPr/>
              </p:nvSpPr>
              <p:spPr>
                <a:xfrm>
                  <a:off x="228600" y="352476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7"/>
                <p:cNvSpPr/>
                <p:nvPr/>
              </p:nvSpPr>
              <p:spPr>
                <a:xfrm>
                  <a:off x="270000" y="358848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88"/>
              <p:cNvGrpSpPr/>
              <p:nvPr/>
            </p:nvGrpSpPr>
            <p:grpSpPr>
              <a:xfrm>
                <a:off x="120600" y="3434400"/>
                <a:ext cx="8745120" cy="223560"/>
                <a:chOff x="120600" y="3434400"/>
                <a:chExt cx="8745120" cy="223560"/>
              </a:xfrm>
            </p:grpSpPr>
            <p:sp>
              <p:nvSpPr>
                <p:cNvPr id="226" name="AutoShape 89"/>
                <p:cNvSpPr/>
                <p:nvPr/>
              </p:nvSpPr>
              <p:spPr>
                <a:xfrm>
                  <a:off x="120600" y="343440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0"/>
                <p:cNvSpPr/>
                <p:nvPr/>
              </p:nvSpPr>
              <p:spPr>
                <a:xfrm>
                  <a:off x="162000" y="349812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2"/>
              <p:cNvGrpSpPr/>
              <p:nvPr/>
            </p:nvGrpSpPr>
            <p:grpSpPr>
              <a:xfrm>
                <a:off x="154800" y="2738160"/>
                <a:ext cx="2102040" cy="2152080"/>
                <a:chOff x="154800" y="2738160"/>
                <a:chExt cx="2102040" cy="2152080"/>
              </a:xfrm>
            </p:grpSpPr>
            <p:sp>
              <p:nvSpPr>
                <p:cNvPr id="229" name="Freeform 93"/>
                <p:cNvSpPr/>
                <p:nvPr/>
              </p:nvSpPr>
              <p:spPr>
                <a:xfrm rot="17970000">
                  <a:off x="392040" y="3066840"/>
                  <a:ext cx="1627200" cy="149436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4"/>
                <p:cNvSpPr/>
                <p:nvPr/>
              </p:nvSpPr>
              <p:spPr>
                <a:xfrm rot="17970000">
                  <a:off x="559440" y="3696480"/>
                  <a:ext cx="366840" cy="109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5"/>
                <p:cNvSpPr/>
                <p:nvPr/>
              </p:nvSpPr>
              <p:spPr>
                <a:xfrm rot="17970000">
                  <a:off x="-3240" y="336564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6"/>
                <p:cNvSpPr/>
                <p:nvPr/>
              </p:nvSpPr>
              <p:spPr>
                <a:xfrm rot="17970000">
                  <a:off x="848880" y="3367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7"/>
                <p:cNvSpPr/>
                <p:nvPr/>
              </p:nvSpPr>
              <p:spPr>
                <a:xfrm rot="17970000">
                  <a:off x="654480" y="3648960"/>
                  <a:ext cx="5252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610-89CB-499A-8EB3-8948B41507E5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1261800" y="321696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Тема 5 Капитальные вложения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6715080" y="1143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52280" y="2895480"/>
            <a:ext cx="2057400" cy="102888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ав капитальных вложений по технологической структур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933640" y="285840"/>
            <a:ext cx="2514600" cy="39996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роительные работ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933640" y="800280"/>
            <a:ext cx="2514600" cy="57132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аботы по монтажу оборудов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33640" y="1486080"/>
            <a:ext cx="2514600" cy="9144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орудование, предусмотренное в смете на строительство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933640" y="2514600"/>
            <a:ext cx="2514600" cy="80028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нструменты и инвентара, включаемые в сметы на строительств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933640" y="3429000"/>
            <a:ext cx="2514600" cy="9144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Машины и оборудование не входящие в сметы на строительств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33640" y="4457880"/>
            <a:ext cx="2514600" cy="57132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чие капитальные работ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933640" y="5214960"/>
            <a:ext cx="2514600" cy="107172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Затраты, не увеличивающие стоимости основных средств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134040" y="800280"/>
            <a:ext cx="2629080" cy="57132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орудование, сданное в монтаж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6134040" y="1486080"/>
            <a:ext cx="2629080" cy="57132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орудование, не требующее монтаж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134040" y="2171880"/>
            <a:ext cx="2629080" cy="11430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орудование, требующее монтажа, но предназначенное для постоянного запас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2514600" y="457200"/>
            <a:ext cx="0" cy="5257800"/>
          </a:xfrm>
          <a:prstGeom prst="line">
            <a:avLst/>
          </a:prstGeom>
          <a:ln w="2844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2209680" y="3352680"/>
            <a:ext cx="304920" cy="0"/>
          </a:xfrm>
          <a:prstGeom prst="line">
            <a:avLst/>
          </a:prstGeom>
          <a:ln w="2844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5867280" y="1066680"/>
            <a:ext cx="0" cy="1828800"/>
          </a:xfrm>
          <a:prstGeom prst="line">
            <a:avLst/>
          </a:prstGeom>
          <a:ln w="2844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5410080" y="190512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2514600" y="45720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514600" y="182880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514600" y="289548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Line 21"/>
          <p:cNvSpPr/>
          <p:nvPr/>
        </p:nvSpPr>
        <p:spPr>
          <a:xfrm>
            <a:off x="2514600" y="380988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Line 22"/>
          <p:cNvSpPr/>
          <p:nvPr/>
        </p:nvSpPr>
        <p:spPr>
          <a:xfrm>
            <a:off x="2514600" y="472428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Line 23"/>
          <p:cNvSpPr/>
          <p:nvPr/>
        </p:nvSpPr>
        <p:spPr>
          <a:xfrm>
            <a:off x="2514600" y="5715000"/>
            <a:ext cx="45720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Line 24"/>
          <p:cNvSpPr/>
          <p:nvPr/>
        </p:nvSpPr>
        <p:spPr>
          <a:xfrm>
            <a:off x="5867280" y="1066680"/>
            <a:ext cx="30492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5867280" y="1752480"/>
            <a:ext cx="30492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Line 26"/>
          <p:cNvSpPr/>
          <p:nvPr/>
        </p:nvSpPr>
        <p:spPr>
          <a:xfrm>
            <a:off x="5867280" y="2895480"/>
            <a:ext cx="30492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55600" y="6286680"/>
            <a:ext cx="76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лассификация капитальных вложений по технологической структур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8,10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8,10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785880" y="152064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условиях рыночной экономики, предполагающей широкую самостоятельность и самофинансирование производства, общим для всех форм хозяйствования является использование в качестве главного источника финансирования капитальных вложений собственных источников — амортизации основных средств, прибыли и др. При этом амортизационные отчисления выступают как источник преимущественно простого, а прибыль — расширенного воспроизводства основных средств как производственного, так и непроизводственного назначения. При недостатке собственных средств на эти цели привлекаются кредиты банка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государственных предприятиях, аграрных кооперативах и акционерных предприятиях и обществах источником финансирования капитальных вложений являются также денежные и материальные взносы учредителей, доходы от ценных бумаг (акций, облигаций), благотворительные взносы, пожертвования предприятий, организаций и граждан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928800" y="85716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финансирования капитальных вложени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2933640" y="762120"/>
            <a:ext cx="3200400" cy="799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сточники финансирования вложений во внеоборотные актив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276720" y="1981080"/>
            <a:ext cx="2628720" cy="800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иравненные к собственным источник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04920" y="1981080"/>
            <a:ext cx="2628720" cy="800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бственные средства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248520" y="1981080"/>
            <a:ext cx="2628720" cy="800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Заемные средств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04920" y="3124080"/>
            <a:ext cx="2628720" cy="1600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амортизация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часть чистой прибыли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чрезвычайные доход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276720" y="3124080"/>
            <a:ext cx="2628720" cy="1600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средства дольщиков, полученных на безвозвратной основе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бюджетные ассигнования, полученные на безвозвратной основ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6248520" y="3124080"/>
            <a:ext cx="2628720" cy="1600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займы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кредиты банков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- полученные средства долевого участ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1371600" y="1600200"/>
            <a:ext cx="3124080" cy="38088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4495680" y="1600200"/>
            <a:ext cx="0" cy="38088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4495680" y="1600200"/>
            <a:ext cx="3124440" cy="38088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1600200" y="2819520"/>
            <a:ext cx="0" cy="304560"/>
          </a:xfrm>
          <a:prstGeom prst="line">
            <a:avLst/>
          </a:prstGeom>
          <a:ln w="572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4495680" y="2819520"/>
            <a:ext cx="0" cy="304560"/>
          </a:xfrm>
          <a:prstGeom prst="line">
            <a:avLst/>
          </a:prstGeom>
          <a:ln w="572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7620120" y="2819520"/>
            <a:ext cx="0" cy="304560"/>
          </a:xfrm>
          <a:prstGeom prst="line">
            <a:avLst/>
          </a:prstGeom>
          <a:ln w="572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1673280" y="5410080"/>
            <a:ext cx="57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сточники финансирования капитальных вложен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5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8,10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8,10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428760" y="8571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едитование крестьянских хозяйств: источники и формы — кредит, залог, лизин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2" name="Picture 10" descr=""/>
          <p:cNvPicPr/>
          <p:nvPr/>
        </p:nvPicPr>
        <p:blipFill>
          <a:blip r:embed="rId1"/>
          <a:stretch/>
        </p:blipFill>
        <p:spPr>
          <a:xfrm>
            <a:off x="2214720" y="2286000"/>
            <a:ext cx="45720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500040" y="1506600"/>
            <a:ext cx="82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ффективное ведение крестьянского хозяйства невозможно без наличия соответствующих источников финансирования его текущих затрат и капитальных вложений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точников финансирования текущих затрат и капитальных вложений в крестьянском хозяйстве два —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бственные и заемны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Прямоугольник 2"/>
          <p:cNvSpPr/>
          <p:nvPr/>
        </p:nvSpPr>
        <p:spPr>
          <a:xfrm>
            <a:off x="428760" y="328608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К собственным источникам относятся личные сбережения, средства от реализации ненужного имущества, страховые возмещения и др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500040" y="4214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Основным источником заемных средств являются кредиты государственных, коммерческих, кооперативных и других банков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ы могут бы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е и долгосрочные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428760" y="144504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ткосрочные кредиты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оставляются для осуществления текущих производственных затрат (на оплату необходимых для производства товарно-материальных ценностей и услуг), на срок до 12 месяцев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лгосрочные кредиты крестьянским хозяйствам предоставляются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c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троительство, расширение, реконструкцию объектов и другие затраты по созданию (включая покупку) и ремонту основных средств на срок до 10 лет, но не более срока пользования землей, с погашением начиная со 2 года после получения ссуды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c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обретение сельскохозяйственной техники, транспортных средств и оборудования на срок до 7 лет с погашением, начиная со 2-го года после получения ссуды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c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траты по формированию основного стада и приобретение пчелосемей сроком до 3 лет, с погашением со 2-го года после получения ссуды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2928960" y="514368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357120" y="856440"/>
            <a:ext cx="8286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редоставлении крестьянскому хозяйству земли в бессрочное пользование или заключении договора на право пользования землей (аренды земли) на срок не менее 15 лет долгосрочные кредиты им предоставляются на льготных условиях на следующие мероприятия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00206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00206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затраты по строительству объектов производственного назначения (включая затраты по закладке и выращиванию многолетних насаждений) на срок окупаемости, но не более 15 лет, с погашением со 2-го года посл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ершения мероприятия (начала срока плодоношения многолетних насажден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00206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троительство жилого дома с надворными постройками в сумме до 50 тыс. тенге на срок до 50 лет, с погашением начиная с 6-го года после получения кредит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357120" y="1437840"/>
            <a:ext cx="835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обходимым условием получения сельскохозяйственного кредита является его обоснование. При составлении письменной заявки крестьянское хозяйство должно четко обосновать размер ссуды, направления ее использования, возможные (желательные) сроки ее погашения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ценивая предложения крестьянского хозяйства, кредитор обычно обращает внимание на 6 основных моментов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785880" y="428760"/>
            <a:ext cx="2009880" cy="10000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"/>
          <p:cNvSpPr/>
          <p:nvPr/>
        </p:nvSpPr>
        <p:spPr>
          <a:xfrm>
            <a:off x="357120" y="3722040"/>
            <a:ext cx="8286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Цель получения ссуды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Репутация и личные качества главы крестьянского хозяйств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Финансовое положение (прибыльность) крестьянского хозяйств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Платежеспособность крестьянской семь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Ликвидност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 Залоговое обеспечени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857600" cy="142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428760" y="101340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й из форм получения кредита для нужд крестьянского хозяйства является залог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лог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дставляет собой способ обеспечения исполнения обязательства, при котором кредитору передается какая-либо имущественная ценность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ом залог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ожет быть земельный участок (при наличии частной собственности на землю), жилые строения, машины, оборудование, деньги, ценные бумаги и любое имуще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е значение для начинающих крестьянских хозяйств имеет норма действующего законодательства, распространяющая право залога на имущество, которое поступит в собственность залогодателя в будуще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642960" y="41432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личают два вида залога: заклад и ипотек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428840" y="500076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4357800" y="5000760"/>
            <a:ext cx="22143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357120" y="857160"/>
            <a:ext cx="84297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Альтернативным способом удовлетворения потребностей крестьянского хозяйства в долгосрочных кредитах является лизинг.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ность лизинга заключается в том, что лизинговая компания или коммерческий банк, покупая современное оборудование, машины и механизмы, предоставляют их в аренду на различные сроки крестьянскому хозяйству, которое постепенно погашает задолженность по мере использования имущества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ледует отметить, что лизинговые операции отвечают коммерческим интересам, как крестьянского хозяйства, так и банка (лизинговой компании) и являются обоюдовыгодной сделкой, что служит непременным условием заключения договора о лизинге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еимущества лизинг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перед банковским долгосрочным кредитом для крестьянского хозяйства очевидны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. Это проявляется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-первых,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платежах по лизингу, которые ведутся из суммы прибыли от использования арендуемого имущества и не подлежат налогообложению, поскольку являются арендной платой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-вторых,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арендатор поставлен в льготные условия в части выбора срока арендной платы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857160" y="2082240"/>
            <a:ext cx="764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ие, основные направления использования, структура и источники финансирования капитальных вложен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едитование крестьянских хозяйств: источники и формы — кредит, залог, лизинг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казатели и факторы эффективности использования капитальных вложен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ути повышения эффективности использования капитальных вложен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1285920" y="11444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лан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428760" y="7142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3. Показатели и факторы эффективности использования капитальных вложени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500040" y="1571760"/>
            <a:ext cx="82868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д экономической эффективностью капитальных вложений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аграрное производство понимают отношение планируемого или достигнутого эффекта к капитальным вложениям, вызвавшим этот эффект. Для учета и анализа экономической эффективности капитальных вложений в аграрное производство используют систему показателей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В зависимости от целей определяют общую (абсолютную) или сравнительную экономическую эффективность капитальных вложений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щую (абсолютную) экономическую эффективность капитальных вложений рассчитывают при оценке результатов осуществленных капитальных вложений, а также при планировании и проектировании во всех случаях, когда имеется возможность определения размеров чистой продукции, чистого дохода или прибыли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Коэффициент общей (абсолютной) экономической эффективности капитальных вложений, называемый показателем капиталоотдачи (Э</a:t>
            </a:r>
            <a:r>
              <a:rPr b="1" lang="ru-RU" sz="1600" spc="-1" strike="noStrike" baseline="-25000">
                <a:solidFill>
                  <a:srgbClr val="00206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),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измеряется отношением прироста чистой продукции, чистого дохода или прибыли к вызвавшим этот прирост капитальным вложениям по формуле: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Капитальные вложения считаются эффективными в том случае, если полученный в результате расчета коэффициент общей (абсолютной) эффективности не ниже нормативного, а также фактического за предшествующий период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2"/>
              <p:cNvSpPr txBox="1"/>
              <p:nvPr/>
            </p:nvSpPr>
            <p:spPr>
              <a:xfrm>
                <a:off x="4214880" y="4857840"/>
                <a:ext cx="1554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П;ЧД;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500040" y="905400"/>
            <a:ext cx="81439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тным показателем общей (абсолютной) эффективности капитальных вложений являетс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 их окупаемости (В</a:t>
            </a:r>
            <a:r>
              <a:rPr b="1" lang="ru-RU" sz="2000" spc="-1" strike="noStrike" baseline="-30000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,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ываемый также показателем капиталоемкости. Его рассчитывают по формуле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2"/>
              <p:cNvSpPr txBox="1"/>
              <p:nvPr/>
            </p:nvSpPr>
            <p:spPr>
              <a:xfrm>
                <a:off x="3000240" y="2000160"/>
                <a:ext cx="2071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ЕП;ЧД;П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Rectangle 4"/>
          <p:cNvSpPr/>
          <p:nvPr/>
        </p:nvSpPr>
        <p:spPr>
          <a:xfrm>
            <a:off x="571680" y="2646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кольку срок окупаемости капитальных вложений есть величина, обратная коэффициенту их экономической эффективности, постольку срок окупаемости может быть рассчитан по формул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5"/>
              <p:cNvSpPr txBox="1"/>
              <p:nvPr/>
            </p:nvSpPr>
            <p:spPr>
              <a:xfrm>
                <a:off x="3429000" y="3643200"/>
                <a:ext cx="1357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Э</m:t>
                            </m:r>
                          </m:e>
                          <m:sub>
                            <m:r>
                              <m:t xml:space="preserve">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7"/>
          <p:cNvSpPr/>
          <p:nvPr/>
        </p:nvSpPr>
        <p:spPr>
          <a:xfrm>
            <a:off x="285840" y="429336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аграрном производстве экономическая эффективность капитальных вложений может быть выражена также улучшением использования главного средства производства — земли. Поэтому косвенным показателем общей (абсолютной) эффективности капитальных вложений является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рост чистой (валовой) продукции аграрного производства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в стоимостном выражении) в расчете на единицу сельскохозяйственных угодий или пашн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8"/>
              <p:cNvSpPr txBox="1"/>
              <p:nvPr/>
            </p:nvSpPr>
            <p:spPr>
              <a:xfrm>
                <a:off x="5429160" y="5715000"/>
                <a:ext cx="1285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t xml:space="preserve">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П;СВП</m:t>
                        </m:r>
                      </m:num>
                      <m:den>
                        <m:sSub>
                          <m:e>
                            <m:r>
                              <m:t xml:space="preserve">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х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З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428760" y="8614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равнительную экономическую эффективность капитальных вложений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ссчитывают при сопоставлении нескольких вариантов хозяйственных решений, внедрения новой техники, строительства новых или реконструкции действующих предприятий или отдельных сооружений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428760" y="2156760"/>
            <a:ext cx="84294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ем сравнительной экономической эффективности капитальных вложений при наилучшем варианте являетс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ичина приведенных затрат (Э</a:t>
            </a:r>
            <a:r>
              <a:rPr b="1" lang="ru-RU" sz="1800" spc="-1" strike="noStrike" baseline="-30000">
                <a:solidFill>
                  <a:srgbClr val="002060"/>
                </a:solidFill>
                <a:latin typeface="Times New Roman"/>
                <a:ea typeface="Times New Roman"/>
              </a:rPr>
              <a:t>с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Э</a:t>
            </a:r>
            <a:r>
              <a:rPr b="1" lang="ru-RU" sz="2000" spc="-1" strike="noStrike" baseline="-25000">
                <a:solidFill>
                  <a:srgbClr val="333333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= С + КВ х Е</a:t>
            </a:r>
            <a:r>
              <a:rPr b="1" lang="ru-RU" sz="2000" spc="-1" strike="noStrike" baseline="-25000">
                <a:solidFill>
                  <a:srgbClr val="333333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де С — текущие производственные затраты (издержки), тенге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800" spc="-1" strike="noStrike" baseline="-25000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— нормативный коэффициент эффективности капитальных вложений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428760" y="400068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еденные затраты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едставляют собой сумму текущих производственных затрат и единовременных затрат (капитальных вложений), приведенных к одинаковой размерности через единый нормативный коэффициент сравнительной экономической эффективности капитальных вложений (дисконтирование)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500040" y="5715000"/>
            <a:ext cx="807264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Чем меньше сумма приведенных затрат по сравниваемым вариантам, тем экономически более эффективны при прочих равных условиях капитальные влож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357120" y="573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ути повышения эффективности использования капитальных вложени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500040" y="1453680"/>
            <a:ext cx="828684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рарное производство располагает значительными резервами, т. е. неиспользованными возможностями повышения эффективности капитальных вложений, которая может быть достигнута следующими основными путя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.Обеспечение комплексности и пропорциональности капитальных вложений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. Сокращение разрыва во времени между вложением средств и получением экономического эффекта, особенно в капитальном строительстве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.Повышение экономичности капитального строительства производственных и непроизводственных объектов за счет строгого соблюдения режима экономии, использования местных (как правило, более дешевых) строительных материалов, а также прогрессивных методов ведения строительно-монтажных работ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4. Увеличение инвестиций на реконструкцию действующих основных средств, в особенности производственных зданий и сооружений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5. Полное обеспечение капитальных вложений в строительство необходимыми трудовыми и материальными ресурсами, в особенности строительными материалами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. Материальное стимулирование работников за улучшение качества и экономичность строительно-монтажных работ и сокращение сроков капитального строительства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500040" y="1739520"/>
            <a:ext cx="8215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процессе аграрного производства происходит постепенное снашивание, а затем и выбытие из него действующих основных средств, что вызывает необходимость их воспроизводства —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стого или расширенного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точнико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финансирования воспроизводства основных средств являю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питальные вложения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питальными вложениям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 аграрном производстве называют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енежные средства,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направляемы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 расширение и реконструкцию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ействующих основных средств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питальные вложения подразделяют н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изводственные и непроизводственные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 производственным капиталовложениям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носят затраты, связанные с производством продукции. Это затраты на приобретение тракторов, сельскохозяйственных машин, рабочего и продуктивного скота, на сооружение помещений для животных, строительство дорог. По экономической сущности к капитальным вложениям производственного назначения относят также затраты на формирование основного стада и капитальный ремонт основных средств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44928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 непроизводственным капиталовложениям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носят затраты на строительство жилья, зданий культурно-бытового назначения и здравоохранения. Капитальные вложения — это потенциальные основные средства, они превращаются в основные средства после ввода в эксплуатацию соответствующих объектов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357120" y="78588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онятие, основные направления использования, структура и источники финансирования капитальных вложен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571680" y="200916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итальное строительство и реконструкция производственных помещений растениеводства и животноводства, мастерских, жилья, культурно-бытовых объектов и т. д.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 algn="just"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бретение орудий производства (машин, оборудования), рабочего скота, а также формирование стада продуктивных животных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 algn="just"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лиорация земель, закладка и выращивание многолетних насаждений и др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642960" y="10717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направления использования капитальных вложений в аграрном производстве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571680" y="4429080"/>
            <a:ext cx="7786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умма всех капитальных вложений за какой-либо период представляет собой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окупные капитальные вложения (КВ).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дельными капитальными вложениями (КВ</a:t>
            </a:r>
            <a:r>
              <a:rPr b="0" i="1" lang="ru-RU" sz="1800" spc="-1" strike="noStrike" baseline="-25000">
                <a:solidFill>
                  <a:srgbClr val="002060"/>
                </a:solidFill>
                <a:latin typeface="Times New Roman"/>
              </a:rPr>
              <a:t>У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) называют сумму капитальных вложении, приходящуюся в расчете на гектар земельных угодий (сельхозугодий, пашни) — (ЗР) или одно скотоместо (С</a:t>
            </a:r>
            <a:r>
              <a:rPr b="0" i="1" lang="ru-RU" sz="1800" spc="-1" strike="noStrike" baseline="-25000">
                <a:solidFill>
                  <a:srgbClr val="00206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), их рассчитывают по формулам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5"/>
              <p:cNvSpPr txBox="1"/>
              <p:nvPr/>
            </p:nvSpPr>
            <p:spPr>
              <a:xfrm>
                <a:off x="2214720" y="6000840"/>
                <a:ext cx="1428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ΚΒ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Κ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З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7"/>
              <p:cNvSpPr txBox="1"/>
              <p:nvPr/>
            </p:nvSpPr>
            <p:spPr>
              <a:xfrm>
                <a:off x="3786120" y="6000840"/>
                <a:ext cx="1428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ΚΒ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ΚΒ</m:t>
                        </m:r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42920" y="3214800"/>
            <a:ext cx="2171520" cy="799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ав в капитальных вложений – это капитальный затрат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928960" y="3000240"/>
            <a:ext cx="578628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3) затраты на проектно-изыскательские работы и техническую документацию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928960" y="1071720"/>
            <a:ext cx="5786280" cy="785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1) капитальное строительство производственных помещений растениеводства и животноводства, мастерских, жилья, культурно-бытовых объектов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928960" y="2143080"/>
            <a:ext cx="578628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2)  реконструкцию, модернизацию и другие улучшения основных средств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2928960" y="5286240"/>
            <a:ext cx="578628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6) мелиорацию земель, закладку и выращивание многолетних насаждений и др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928960" y="3786120"/>
            <a:ext cx="5786280" cy="343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4) формирование основного стад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2928960" y="4500720"/>
            <a:ext cx="5786280" cy="342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cdcda"/>
              </a:gs>
            </a:gsLst>
            <a:lin ang="189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5) приобретение земельного участк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571840" y="5572080"/>
            <a:ext cx="38088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2571840" y="4643280"/>
            <a:ext cx="38088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2286000" y="3643200"/>
            <a:ext cx="30492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2571840" y="3929040"/>
            <a:ext cx="38088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22"/>
          <p:cNvSpPr/>
          <p:nvPr/>
        </p:nvSpPr>
        <p:spPr>
          <a:xfrm>
            <a:off x="2571840" y="3214800"/>
            <a:ext cx="38088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23"/>
          <p:cNvSpPr/>
          <p:nvPr/>
        </p:nvSpPr>
        <p:spPr>
          <a:xfrm>
            <a:off x="2571840" y="2357280"/>
            <a:ext cx="38088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2571840" y="1357200"/>
            <a:ext cx="380880" cy="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9" name="Прямая со стрелкой 35" descr=""/>
          <p:cNvPicPr/>
          <p:nvPr/>
        </p:nvPicPr>
        <p:blipFill>
          <a:blip r:embed="rId1"/>
          <a:stretch/>
        </p:blipFill>
        <p:spPr>
          <a:xfrm>
            <a:off x="2494080" y="1335240"/>
            <a:ext cx="152280" cy="430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500120" y="1876320"/>
            <a:ext cx="61437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428760" y="10000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оличественную и качественную характеристики капитальных вложений отражает их структура, т. е. соотношение тех или иных элементов в общем объеме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500040" y="24289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уктура капитальных вложений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64280" y="321480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7200"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траслевая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928800" y="3786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воспроизводственная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34120" y="442908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7200" algn="just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ческая 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2"/>
          <p:cNvSpPr/>
          <p:nvPr/>
        </p:nvSpPr>
        <p:spPr>
          <a:xfrm>
            <a:off x="428760" y="1500120"/>
            <a:ext cx="8286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траслевая структура капитальных вложений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едставляет собой соотношение инвестиций по различным отраслям или видам производств. Она характеризует величину средств капитального характера из общего их объема, вложенных в ту или иную отрасль хозяйства: промышленность, сельское хозяйство, транспорт, связь, строительство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5720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спроизводственная структура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арактеризует удельный вес капитальных вложений по различным направлениям их использования. это распределение инвестиции по основным формам воспроизводства, к которым относятся строительство новых предприятий, расширение действующих предприятии, реконструкция, техническое перевооружение, поддержание действующих мощностей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457200" algn="just"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Технологическая структура капитальных вложений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казывает, какая их часть была направлена на строительно-монтажные работы; на приобретение машин, оборудования, механизмов, дорогостоящих инструментов и инвентаря; на проектно-изыскательскую деятельность.  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2514600" y="736560"/>
            <a:ext cx="4343400" cy="4572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50000">
                <a:srgbClr val="ccffff"/>
              </a:gs>
              <a:gs pos="100000">
                <a:srgbClr val="9cdcda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арактер долгосрочных инвести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447920"/>
            <a:ext cx="2438280" cy="20574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50000">
                <a:srgbClr val="ccffff"/>
              </a:gs>
              <a:gs pos="100000">
                <a:srgbClr val="9cdcda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Times New Roman"/>
              </a:rPr>
              <a:t>Капитальное строительство в форме нового строительства, а также реконструкции, расширения и технического перевооружения действующих объектов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981080" y="3733920"/>
            <a:ext cx="2286000" cy="129528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50000">
                <a:srgbClr val="ccffff"/>
              </a:gs>
              <a:gs pos="100000">
                <a:srgbClr val="9cdcda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Times New Roman"/>
              </a:rPr>
              <a:t>Приобретение зданий, сооружений, оборудования, транспортных средств и др. объектов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3429000" y="1447920"/>
            <a:ext cx="2286000" cy="20574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50000">
                <a:srgbClr val="ccffff"/>
              </a:gs>
              <a:gs pos="100000">
                <a:srgbClr val="9cdcda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Times New Roman"/>
              </a:rPr>
              <a:t>Приобретение земельных участков и объектов природопользования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334120" y="3733920"/>
            <a:ext cx="2286000" cy="129528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50000">
                <a:srgbClr val="ccffff"/>
              </a:gs>
              <a:gs pos="100000">
                <a:srgbClr val="9cdcda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Times New Roman"/>
              </a:rPr>
              <a:t>Приобретение и создание активов нематериального характера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6324480" y="1447920"/>
            <a:ext cx="2133720" cy="2057400"/>
          </a:xfrm>
          <a:prstGeom prst="rect">
            <a:avLst/>
          </a:prstGeom>
          <a:gradFill rotWithShape="0">
            <a:gsLst>
              <a:gs pos="0">
                <a:srgbClr val="9cdcda"/>
              </a:gs>
              <a:gs pos="50000">
                <a:srgbClr val="ccffff"/>
              </a:gs>
              <a:gs pos="100000">
                <a:srgbClr val="9cdcda"/>
              </a:gs>
            </a:gsLst>
            <a:lin ang="2700000"/>
          </a:gradFill>
          <a:ln w="9360">
            <a:solidFill>
              <a:srgbClr val="006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Times New Roman"/>
              </a:rPr>
              <a:t>Выполнение научно-исследовательских, опытно – конструкторских и технологических работ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4419720" y="1219320"/>
            <a:ext cx="0" cy="22860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943600" y="1219320"/>
            <a:ext cx="0" cy="251460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3048120" y="1219320"/>
            <a:ext cx="0" cy="243828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2590920" y="1219320"/>
            <a:ext cx="0" cy="22860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6553080" y="1219320"/>
            <a:ext cx="0" cy="228600"/>
          </a:xfrm>
          <a:prstGeom prst="line">
            <a:avLst/>
          </a:prstGeom>
          <a:ln w="28440">
            <a:solidFill>
              <a:srgbClr val="0064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2454120" y="56386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Характер долгосрочных инвести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8,10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8,10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2:31:50Z</dcterms:created>
  <dc:creator>КЦ</dc:creator>
  <dc:description/>
  <dc:language>en-US</dc:language>
  <cp:lastModifiedBy>ASI3</cp:lastModifiedBy>
  <dcterms:modified xsi:type="dcterms:W3CDTF">2013-02-16T18:58:15Z</dcterms:modified>
  <cp:revision>88</cp:revision>
  <dc:subject/>
  <dc:title>Презентация PowerPoint</dc:title>
</cp:coreProperties>
</file>